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B0D1-DA9E-4569-9BAA-21B887190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879C-8092-476B-B55A-2B4BF95D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F91B-B2CF-4446-B299-3CA9F86A9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19B4-42EF-46B5-A17E-29D3E43E1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A257B-5F74-479B-8661-390E8BD0E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D2A0-EDE4-4908-84E3-73DE115E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2888-7A97-43F3-A299-B525FC25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9ABB4-9AC2-4058-8F03-6E56593B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BDE3-AB47-4F8D-85F6-E8FA2A73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2839-6E39-41EC-82D1-5308436A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A61B-D37F-43AB-BBE7-B87E3A41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621C-3B87-4D3C-BE6F-12FBA025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155D5-A90B-469C-A246-8AA6199F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1E77F-CA10-4877-9AB5-B53A7882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54CD-E77C-46A8-A4F0-66EEDEA3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B737-553A-430D-AD8F-82831D9B3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455B-484D-4D91-B1AE-F04908A95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36DE-C282-43A9-93F5-C6940EA2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DFA1-CB3B-4442-87DB-D7E2354E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3185-C7D9-41B6-AD66-F9115B51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34A0-3835-47D8-83D2-DF96F7A6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1E4A-6BF1-4A4D-B8CF-A28E33DB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2298-2E95-47CA-B270-F52CAFED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DD9B-2AEE-4519-AA92-3F60FF5F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4951-1FF3-491D-BFB5-620DFA686E3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1DD9-5E04-4916-91DF-30F39D85B89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Biological Magnification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Biological Magnific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fers to the process where certain substances such as pesticides or heavy metal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ove up the food chain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ork their way into rivers or lakes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nd are eaten by aquatic organisms such as fish,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ich in turn are eaten by large birds, animals or humans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substances become concentrated in tissues or internal organs as they move up the chain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18:16:59Z</dcterms:created>
  <dc:creator>Clear Creek ISD</dc:creator>
  <dc:description/>
  <dc:language>en-US</dc:language>
  <cp:lastModifiedBy>Clear Creek ISD</cp:lastModifiedBy>
  <dcterms:modified xsi:type="dcterms:W3CDTF">2008-10-16T12:47:24Z</dcterms:modified>
  <cp:revision>3</cp:revision>
  <dc:subject/>
  <dc:title>Biological Magnification</dc:title>
</cp:coreProperties>
</file>